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5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DIA_DIA.WAV" ContentType="audio/x-wav"/>
  <Override PartName="/ppt/media/image2.wmf" ContentType="image/x-wmf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833-6D6E-4A5B-84FE-0538A138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435-2B0F-4D55-A2B8-21C7E6DD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B9EB-89CB-414C-B2B0-9CF6BAD3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64B-A312-46DF-968B-54837F90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4CC4-082E-445F-82D6-2D0CDD93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E4F6-DF30-4CD0-B1B3-D2C3B269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E935-5388-4433-91F9-5AEF54E6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FDFF-5F48-445E-BFEF-5997A1F5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CF28-8985-4EA9-B1C4-D4D9C6C0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47E0-3906-4A5E-82B7-E0E23C96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5817-5E0F-4963-98AD-84A81E2E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132-142A-4937-B203-CC3656DF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C4AA-120B-43CB-9B98-E42D1911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A428-3B16-48E0-9CF2-96BACC2C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EA26-A38C-4B44-8B97-4C935C9E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0835-5595-453B-902D-AB9630BE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DFC0-E155-4EDE-ABB3-6CFB0938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49E-7398-4947-869D-F3077EBB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2F4-E702-4AB7-BE59-A4C825BF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9AB-222E-4182-858E-DDFB47DF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64C-E5C6-405C-B3F1-C6234189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DDE-E297-452A-9B35-53F9B208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2DB-CA19-44A4-8982-D03A050F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E60-D818-45BE-83B6-0D1E2515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F1C5-E945-4977-AD2F-0EDD5700CAA1}" type="slidenum">
              <a:rPr b="0" lang="hu-H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C396-1C18-4844-B496-B3118CE75C62}" type="slidenum">
              <a:rPr b="0" lang="hu-H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audio" Target="../media/DIA_DIA.WAV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audio" Target="../media/DIA_DIA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png"/><Relationship Id="rId19" Type="http://schemas.openxmlformats.org/officeDocument/2006/relationships/audio" Target="../media/DIA_DIA.WAV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audio" Target="../media/DIA_DIA.WAV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image" Target="../media/image15.png"/><Relationship Id="rId7" Type="http://schemas.openxmlformats.org/officeDocument/2006/relationships/audio" Target="../media/DIA_DIA.WAV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57150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cc9900"/>
                </a:solidFill>
                <a:latin typeface="Tahoma"/>
              </a:rPr>
              <a:t>Dózsa György </a:t>
            </a:r>
            <a:r>
              <a:rPr b="0" lang="hu-HU" sz="4800" spc="-1" strike="noStrike">
                <a:solidFill>
                  <a:srgbClr val="cc9900"/>
                </a:solidFill>
                <a:latin typeface="Times New Roman"/>
              </a:rPr>
              <a:t>Utcai Általános Iskola</a:t>
            </a:r>
            <a:r>
              <a:rPr b="0" lang="hu-HU" sz="48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hu-HU" sz="4800" spc="-1" strike="noStrike">
                <a:solidFill>
                  <a:srgbClr val="cc9900"/>
                </a:solidFill>
                <a:latin typeface="Times New Roman"/>
              </a:rPr>
              <a:t>DÖK haladó</a:t>
            </a:r>
            <a:r>
              <a:rPr b="0" lang="hu-HU" sz="48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hu-HU" sz="4800" spc="-1" strike="noStrike">
                <a:solidFill>
                  <a:srgbClr val="cc9900"/>
                </a:solidFill>
                <a:latin typeface="Times New Roman"/>
              </a:rPr>
              <a:t>Csillagászati szakkör bemutatója.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523880"/>
            <a:ext cx="9296280" cy="533412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 u="sng">
                <a:solidFill>
                  <a:srgbClr val="800000"/>
                </a:solidFill>
                <a:uFillTx/>
                <a:latin typeface="Times New Roman"/>
              </a:rPr>
              <a:t>TIP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6666"/>
                </a:solidFill>
                <a:latin typeface="Times New Roman"/>
              </a:rPr>
              <a:t>Dőljön hátra 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carnegie2" descr=""/>
          <p:cNvPicPr/>
          <p:nvPr/>
        </p:nvPicPr>
        <p:blipFill>
          <a:blip r:embed="rId1"/>
          <a:stretch/>
        </p:blipFill>
        <p:spPr>
          <a:xfrm>
            <a:off x="380880" y="6735600"/>
            <a:ext cx="247680" cy="122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1295280" cy="39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1981080" y="4343400"/>
          <a:ext cx="304812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343400"/>
                    <a:ext cx="3048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715000" y="4343400"/>
          <a:ext cx="3048120" cy="190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343400"/>
                    <a:ext cx="3048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3808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  <p:sndAc>
      <p:stSnd>
        <p:snd r:embed="rId8" name="DIA_DI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c9900"/>
                </a:solidFill>
                <a:latin typeface="Tahoma"/>
              </a:rPr>
              <a:t>Ez az előadás bemutatja a Hercegszántón működő haladó Csillagász szakkört a tagok szemszögéből.</a:t>
            </a:r>
            <a:r>
              <a:rPr b="0" lang="hu-HU" sz="42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304920"/>
            <a:ext cx="3886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vezeté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95280" y="3048120"/>
          <a:ext cx="304812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30481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029200" y="3048120"/>
          <a:ext cx="2590920" cy="19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048120"/>
                    <a:ext cx="259092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0000">
    <p:random/>
    <p:sndAc>
      <p:stSnd>
        <p:snd r:embed="rId5" name="DIA_DI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05520" y="8377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egismerkedtünk a naprendszerr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épzeletben sok fényévvel távolabb jártu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llátogattunk Budapestre a Planetáriumb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egnéztünk ismertető jellegű videofilmeke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457200"/>
            <a:ext cx="3048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Első rés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4343400"/>
          <a:ext cx="12193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343400"/>
                    <a:ext cx="1219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981080" y="4343400"/>
          <a:ext cx="120024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343400"/>
                    <a:ext cx="12002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715000" y="4343400"/>
          <a:ext cx="1200240" cy="75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343400"/>
                    <a:ext cx="12002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352680" y="4343400"/>
          <a:ext cx="1162080" cy="72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4343400"/>
                    <a:ext cx="1162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648320" y="4343400"/>
          <a:ext cx="952560" cy="71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343400"/>
                    <a:ext cx="9525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010280" y="4343400"/>
          <a:ext cx="1181160" cy="738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0280" y="4343400"/>
                    <a:ext cx="118116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819520" y="5181480"/>
          <a:ext cx="1181160" cy="738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5181480"/>
                    <a:ext cx="118116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114800" y="5181480"/>
          <a:ext cx="1143000" cy="71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5181480"/>
                    <a:ext cx="11430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410080" y="5181480"/>
          <a:ext cx="1143000" cy="714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5181480"/>
                    <a:ext cx="11430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20000">
    <p:random/>
    <p:sndAc>
      <p:stSnd>
        <p:snd r:embed="rId19" name="DIA_DI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cc9900"/>
                </a:solidFill>
                <a:latin typeface="Tahoma"/>
              </a:rPr>
              <a:t>Tiszta égbolt esetén, távcsővel vizsgáltuk a bolygókat, csillagképeket. Borult, rossz idő esetén megbeszéltük  még hátralevő munkánk és filmekkel bővítettük ismeretségünket. A diákönkormányzat támogatásával eljutottunk Bajára az amatőr csillagvizsgálóba. </a:t>
            </a:r>
            <a:r>
              <a:rPr b="0" lang="hu-HU" sz="4200" spc="-1" strike="noStrike">
                <a:solidFill>
                  <a:srgbClr val="cc9900"/>
                </a:solidFill>
                <a:latin typeface="Tahoma"/>
              </a:rPr>
              <a:t>  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2120" y="609480"/>
            <a:ext cx="3267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ásodik rés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029200" y="228600"/>
          <a:ext cx="30481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28600"/>
                    <a:ext cx="3048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762120" y="3809880"/>
          <a:ext cx="1981080" cy="123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809880"/>
                    <a:ext cx="198108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352680" y="3886200"/>
          <a:ext cx="1752840" cy="109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886200"/>
                    <a:ext cx="17528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324480" y="3429000"/>
          <a:ext cx="2210040" cy="138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4480" y="3429000"/>
                    <a:ext cx="221004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800600" y="5257800"/>
          <a:ext cx="1905120" cy="119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5257800"/>
                    <a:ext cx="19051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30000">
    <p:random/>
    <p:sndAc>
      <p:stSnd>
        <p:snd r:embed="rId11" name="DIA_DI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Tahoma"/>
              </a:rPr>
              <a:t>Gyakorlati munkáink, és látogatásunk a Planetáriumba sokunkat meggyőzött arról, hogy ez egy érdekes hobbi, és jó munkahely.          Mindezt gondolja és írta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380880"/>
            <a:ext cx="5486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armadik rés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33920" y="4343400"/>
            <a:ext cx="2361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 CE"/>
              </a:rPr>
              <a:t>Barta Zsol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 CE"/>
              <a:ea typeface="Times New Roman CE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477120" y="4419720"/>
            <a:ext cx="2009520" cy="188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457200" y="4724280"/>
          <a:ext cx="3048120" cy="190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724280"/>
                    <a:ext cx="3048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5000">
    <p:random/>
    <p:sndAc>
      <p:stSnd>
        <p:snd r:embed="rId7" name="DIA_DI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8T18:26:13Z</dcterms:created>
  <dc:creator>Prodán Marin</dc:creator>
  <dc:description/>
  <dc:language>en-US</dc:language>
  <cp:lastModifiedBy>PRODÁN MARIN</cp:lastModifiedBy>
  <dcterms:modified xsi:type="dcterms:W3CDTF">1999-01-16T17:02:16Z</dcterms:modified>
  <cp:revision>9</cp:revision>
  <dc:subject/>
  <dc:title>Dózsa György Utcai Általános Iskola DÖK haladó Csillagászati szakkör bemutatója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FrontPage Webs\Content\suli\Szakköreink\Csillagászok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