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AE6-C71B-41B1-9043-032DB138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BC4-5B1D-40CC-BBA7-FC4DBC4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BBB-468C-4A89-BB46-9311EF3E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58D-0672-4F37-A323-5FE99C48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3BB-F5F0-4487-B564-C58AEFD8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14F-20E5-474D-BEF0-320B77F9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BE3-C9EC-41D0-9894-3D31DC25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E8B-6674-47BE-ACF6-79FABB4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8A2-C20F-4D0D-B18B-40455859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962-5DDB-4CDE-9585-FAD32DC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9D6-8B50-47CD-B940-95FF046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E98-766A-4B89-8F24-6FD20DE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857B-5F10-4B5D-8AD0-6EA404FB781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82296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A DIÁKÖNKORMÁNYZAT MUNKAT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AZ 1998/99. TANÉ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ffffff"/>
                </a:solidFill>
                <a:latin typeface="Courier New"/>
              </a:rPr>
              <a:t>A diákönkormányzat a tanulók érdekeit képvise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ffffff"/>
                </a:solidFill>
                <a:latin typeface="Courier New"/>
              </a:rPr>
              <a:t>Tevékenysége minden kérdésre kiterjed, a tanulmányi munkától kezdve a szabadidő hasznos eltöltéséig, valamint a tanulói jogok és kötelességek meghatározásái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1.Tanulmányi mu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2.Szervezési mu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3.Szabadidő hasznos eltöl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ourier New"/>
              </a:rPr>
              <a:t>4.Időszakos felad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1. TANULMÁNYI MUN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ÉNI VERSENYEK AZ ISKOLA TANULÓI RÉSZÉ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ÉV TANULÓJA” CÍM MEGHÍRDETÉ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ÉV SPORTOLÓJA” CÍM MEGHÍRDETÉ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ÁLYÁZATOKON VALÓ RÉSZVÉTEL BIZTOSÍTÁSA A TANULÓKN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312408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7200"/>
            <a:ext cx="84582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2. SZERVEZÉSI MUNK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TANULÓI RÉSZVÉTEL A HÁZIREND MÓDOSÍTÁSÁB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LELŐSÖK, OSZTÁLYMESTREK MEGVÁLASZTÁSA, AKIK MAGUK KÖZÖTT ISKOLAMESTERT  IS VÁLASZTANA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AZ OSZTÁLY MESTEREK HAVONTA MEGBESZÉLÉST TARTANA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VÉLEMÉNYEZÉS A DIÁKÉTKEZTETÉS MINŐSÉGÉRŐL, MENNYISÉGÉRŐ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HETI ÉRTÉKELÉS AZ OSZTÁLYTERMEK TISZTASÁGÁRÓL, AZ ARRA ÉRDEMES OSZTÁLY KAPJA MEG A TISZTA, RENDES OSZTÁLY KITÜNTETŐ CÍM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VERSMONDÓ VERSENY SZERVEZÉSE ÉS LEBONYOLÍTÁ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ISKOLAI  FALIÚJSÁG  ELKÉSZÍTÉ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RENDEZVÉNYEK  ELŐKÉSZÍTÉSÉBEN , LEBONYOLÍTÁSBAN VALÓ RÉSZVÉT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AZ ISKOLAZÁSZLÓ MEGTERVEZÉSE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AKTÍV RÉSZVÉTEL AZ ISKOLAUDVAR PARKOSÍTÁSÁBAN, A HOMOKOZÓ KÖRÜLI  FARÖNKÖK  LEFESTÉSÉBEN, A TISZTASÁG MEGŐRZÉSÉ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457200"/>
            <a:ext cx="83822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3.SZABADIDŐ HASZNOS ELTÖLT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DIÁKÚJSÁG SZERKESZTÉSE, IDŐSZAKOS MEGJELENÍTÉ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ANÍTÁS NÉLKÜLI MUNKANAP (DÖK-NAP) PROGRAMJÁNAK ELŐKÉSZÍTÉ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NNEPÉLYEK SZERVEZÉSÉBEN SEGÍTSÉGADÁ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AVASLATOK A TÁBOROZÁS PROGRAMJÁ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ÓRÓLAPOK, MEGHIVÓK, PLAKÁTOK KÉSZITÉSE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ELKÉRÉS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4. IDŐSZAKOS FEL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Őszi idősz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elelősök meg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ázirend módos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iákújság beindítása, folyamatos szerkesz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skolai faliújság kész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Osztálytermek tisztaságának értéke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skolazászló tervének meghirde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ersmondó verseny felső tagozatosok számá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80880"/>
            <a:ext cx="8534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Téli idősz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arácsonyi műsor készítésben segítségnyúj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éli túra szerve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arsangi bál seg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vaszi idősz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árcius 15-ei műsor seg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skola udvar parkosításában való részvétel- rönkök fes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ÖK nap előkészítése lebonyol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ályázatok kiír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antárgyi házi verseny megszerve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Nyári idősz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avaslatok a ballagási és tanévzáró ünnepély programjá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szvétel a  lebonyolításáb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ERCEGSZÁNTÓ 1998-10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162600" cy="3193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2:12:57Z</dcterms:created>
  <dc:creator>Hercegszántó</dc:creator>
  <dc:description/>
  <dc:language>en-US</dc:language>
  <cp:lastModifiedBy>hszanto</cp:lastModifiedBy>
  <dcterms:modified xsi:type="dcterms:W3CDTF">1999-01-13T05:51:20Z</dcterms:modified>
  <cp:revision>17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InetPub\wwwroot\suli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